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253AD-3A82-461C-B4E1-FBE7885DA9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8617F-3C97-4BFC-ABE9-FF552948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C0466-B26F-4295-83A3-3C23383C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92024-7AD0-4556-A6AE-FA9580B30D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B6421-5E55-485A-AE02-F24E8905D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4F297-E3DE-4F8A-88C3-9FA45A9D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546F0-6EB9-4553-84AD-CFAD67EC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081351-FD11-4E0A-98E8-6FFF56E6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B045D-4E33-4328-9701-43B1A72E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C86D4-C800-4494-8AF7-C5B4C892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61E6A9-F049-4398-9D05-AC2C8A7B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CCF7E-443D-440C-8173-3054979C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D84D36-5FB7-4FC2-9E3B-9ED26A5A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765551-4C30-44CF-ADA5-4AD8CD5B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5B9681-BF2C-434E-B6EB-472CAE09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ACC2FE-0CFA-4679-9357-CC98EB12B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4E5D1D-3731-4DE4-A367-98EA98F3B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75B514-F69F-4741-8E91-019154EA8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7B7C89-C237-421F-8285-31819E61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AC95E4-C5A2-48F1-B2D3-5AD58F16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40D392-0C0E-48A4-9F24-6C1C5EF7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E16E5C-5F4E-41AB-8B55-32DDB414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9D013-01E1-4153-957A-2224D28F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394853-3FCB-4A02-8754-D3425895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C43ACA-E9FB-47D0-9E2C-BEC895BC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BDF55F-C213-4DA4-BE4A-57958347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664F59-9280-4477-9E9A-85064C71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618762-B442-4457-856D-371920E3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FCC302-5E0E-4DC8-BF1E-338EDF73D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E57913-DFE4-4F7F-B008-3292A97BD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6E170-9F2F-4C2D-A471-75A09184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37462-0918-491F-943B-B86A60BFD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1E1D1-0F3C-4E6C-A696-3DCF10381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C3F2B-055D-4217-BE4F-CF8AE6D9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2C76E-C964-4FCA-A789-3FD9B834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77E79-B959-48CD-814A-57A929A5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71EA-1716-4567-B1DD-BFD1F67719F9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9E33-CEBC-4101-BDC7-5CC88BD2FF4E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3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4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95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2208-1486-4FB1-9B9B-559228F75017}" type="slidenum">
              <a:rPr b="0" lang="en-US" sz="1400" spc="-1" strike="noStrike">
                <a:solidFill>
                  <a:srgbClr val="046ca6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25239;&#33647;&#32467;&#26680;&#33740;.MPG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9720" y="1571400"/>
            <a:ext cx="720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幼圆"/>
              </a:rPr>
              <a:t>第</a:t>
            </a:r>
            <a:r>
              <a:rPr b="1" lang="en-US" sz="6600" spc="-1" strike="noStrike">
                <a:solidFill>
                  <a:srgbClr val="000000"/>
                </a:solidFill>
                <a:latin typeface="幼圆"/>
              </a:rPr>
              <a:t>27</a:t>
            </a:r>
            <a:r>
              <a:rPr b="1" lang="zh-CN" sz="6600" spc="-1" strike="noStrike">
                <a:solidFill>
                  <a:srgbClr val="000000"/>
                </a:solidFill>
                <a:latin typeface="幼圆"/>
              </a:rPr>
              <a:t>章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071360" y="2785680"/>
            <a:ext cx="71434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幼圆"/>
              </a:rPr>
              <a:t>分枝杆菌属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幼圆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ycobacteria</a:t>
            </a:r>
            <a:r>
              <a:rPr b="0" lang="en-US" sz="5400" spc="-1" strike="noStrike">
                <a:solidFill>
                  <a:srgbClr val="000000"/>
                </a:solidFill>
                <a:latin typeface="幼圆"/>
              </a:rPr>
              <a:t>)</a:t>
            </a:r>
            <a:endParaRPr b="1" lang="en-US" sz="5400" spc="-1" strike="noStrike">
              <a:solidFill>
                <a:srgbClr val="8ac8de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</a:rPr>
              <a:t>首都医科大学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</a:rPr>
              <a:t>郑群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66564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三、微生物学检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87280" y="2492280"/>
            <a:ext cx="655344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涂片染色镜检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痰涂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抗酸染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金胺染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培养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罗氏培养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3~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基因诊断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CR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5084280"/>
            <a:ext cx="2743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检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197080" y="5229000"/>
            <a:ext cx="4578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金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罗丹明染色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64" name="Picture 4" descr="P97图8-3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4952880" cy="4641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P97图8-4"/>
          <p:cNvPicPr/>
          <p:nvPr/>
        </p:nvPicPr>
        <p:blipFill>
          <a:blip r:embed="rId2"/>
          <a:srcRect l="31350" t="0" r="25814" b="3333"/>
          <a:stretch/>
        </p:blipFill>
        <p:spPr>
          <a:xfrm>
            <a:off x="7164360" y="0"/>
            <a:ext cx="198108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auramine rhodamine stain"/>
          <p:cNvPicPr/>
          <p:nvPr/>
        </p:nvPicPr>
        <p:blipFill>
          <a:blip r:embed="rId3"/>
          <a:srcRect l="36319" t="30238" r="0" b="0"/>
          <a:stretch/>
        </p:blipFill>
        <p:spPr>
          <a:xfrm>
            <a:off x="4952880" y="0"/>
            <a:ext cx="21765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063440"/>
            <a:ext cx="46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四、防治原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03400" y="2606400"/>
            <a:ext cx="68515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预防：卡介苗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CG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治疗：抗结核药 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联合用药    药物副作用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耐药菌株的产生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8720" y="919080"/>
            <a:ext cx="746928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结核分枝杆菌小结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2034720"/>
            <a:ext cx="853416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长微弯分枝杆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抗酸阳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抵抗力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罗氏培养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型菌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长缓慢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侵袭力和毒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菌体类脂引起机体超敏反应引起结核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菌免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免疫与超敏反应共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试验可诊断结核病和测定细胞免疫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C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预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联合用药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280" y="1079640"/>
            <a:ext cx="7272360" cy="105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麻风分枝杆菌（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M.lepra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22636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形态染色：与结核杆菌相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培养：动物接种（小白鼠足垫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传播途径：直接接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呼吸道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临床分型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核样型：皮肤、黏膜、周围神经（预后较好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瘤型麻风：全身脏器（传染性强、预后差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eptosy-who4"/>
          <p:cNvPicPr/>
          <p:nvPr/>
        </p:nvPicPr>
        <p:blipFill>
          <a:blip r:embed="rId1"/>
          <a:stretch/>
        </p:blipFill>
        <p:spPr>
          <a:xfrm>
            <a:off x="539640" y="2492280"/>
            <a:ext cx="2843280" cy="4216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50440" y="1452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Mycobacterium lepra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2" descr="leprosy-who"/>
          <p:cNvPicPr/>
          <p:nvPr/>
        </p:nvPicPr>
        <p:blipFill>
          <a:blip r:embed="rId2"/>
          <a:stretch/>
        </p:blipFill>
        <p:spPr>
          <a:xfrm>
            <a:off x="3637080" y="2924280"/>
            <a:ext cx="493704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950400"/>
            <a:ext cx="484344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概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560" y="2203560"/>
            <a:ext cx="504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特点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长微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染色阳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种类及病原菌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结核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麻风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非结核分枝杆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腐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机会致病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5797440" y="1273320"/>
            <a:ext cx="3167280" cy="4937040"/>
            <a:chOff x="5797440" y="1273320"/>
            <a:chExt cx="3167280" cy="4937040"/>
          </a:xfrm>
        </p:grpSpPr>
        <p:pic>
          <p:nvPicPr>
            <p:cNvPr id="142" name="Picture 8" descr="结核杆菌抗酸染色"/>
            <p:cNvPicPr/>
            <p:nvPr/>
          </p:nvPicPr>
          <p:blipFill>
            <a:blip r:embed="rId1"/>
            <a:stretch/>
          </p:blipFill>
          <p:spPr>
            <a:xfrm>
              <a:off x="5797440" y="1273320"/>
              <a:ext cx="3099960" cy="244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9" descr="18-麻风杆菌 copy"/>
            <p:cNvPicPr/>
            <p:nvPr/>
          </p:nvPicPr>
          <p:blipFill>
            <a:blip r:embed="rId2"/>
            <a:stretch/>
          </p:blipFill>
          <p:spPr>
            <a:xfrm>
              <a:off x="5797440" y="3702240"/>
              <a:ext cx="3167280" cy="250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3640" y="112392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、生物学性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4160" y="2354400"/>
            <a:ext cx="748656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染色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染色阳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长微弯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胞壁含大量类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培养特点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专性需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长缓慢 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h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时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罗氏（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wenstei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固体培养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pH6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8,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菌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米黄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菜花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~4w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46" name="Picture 15" descr="myc-tub-dk"/>
          <p:cNvPicPr/>
          <p:nvPr/>
        </p:nvPicPr>
        <p:blipFill>
          <a:blip r:embed="rId1"/>
          <a:stretch/>
        </p:blipFill>
        <p:spPr>
          <a:xfrm>
            <a:off x="5724360" y="1268280"/>
            <a:ext cx="3348360" cy="2511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3640" y="98100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、生物学性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6560" y="2203560"/>
            <a:ext cx="82108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抵抗力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强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耐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燥、酸碱、染料（孔雀绿、结晶紫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敏感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湿热、紫外线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醇、抗结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变异性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"/>
              </a:rPr>
              <a:t>耐药性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毒力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BC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3280" y="1063440"/>
            <a:ext cx="8637840" cy="100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二、致病性与免疫性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1520" y="2111400"/>
            <a:ext cx="820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要致病物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菌体成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类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pi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磷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刺激单核细胞增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酪样坏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索状因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枝菌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破坏线粒体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慢性肉芽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硫酸脑苷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吞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蜡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迟发型超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4600" y="1279440"/>
            <a:ext cx="772776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致疾病及免疫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45680" y="2373120"/>
            <a:ext cx="83041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结核病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多途径感染，最常引起肺结核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原发感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易播散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组织损伤轻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潜伏带菌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继发感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局限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组织损伤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36240" y="13809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原发感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初次感染（外源性感染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6000" y="2017440"/>
            <a:ext cx="592308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见于儿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异性免疫尚未建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变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易扩散→原发综合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发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淋巴管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肺门淋巴结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胸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见 哑铃形阴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55" name="Picture 5" descr="18-哑铃阴影 copy"/>
          <p:cNvPicPr/>
          <p:nvPr/>
        </p:nvPicPr>
        <p:blipFill>
          <a:blip r:embed="rId1">
            <a:alphaModFix amt="49000"/>
          </a:blip>
          <a:stretch/>
        </p:blipFill>
        <p:spPr>
          <a:xfrm>
            <a:off x="6372360" y="3502080"/>
            <a:ext cx="2539800" cy="25398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08848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继发感染（原发后感染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69840" y="2346480"/>
            <a:ext cx="6631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再次感染（多为内源性感染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见于成年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异性免疫已建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变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灶局限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增殖性病变为主：结核结节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0080" y="1208160"/>
            <a:ext cx="7296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致疾病及免疫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45680" y="2301480"/>
            <a:ext cx="83041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免疫特点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菌免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免疫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免疫和超敏反应共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核菌素试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uberculin te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--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T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,PP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ngzhe</cp:lastModifiedBy>
  <dcterms:modified xsi:type="dcterms:W3CDTF">2015-08-26T05:59:43Z</dcterms:modified>
  <cp:revision>2</cp:revision>
  <dc:subject/>
  <dc:title>第27章</dc:title>
</cp:coreProperties>
</file>